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ACE-6EF4-4F40-B4E4-2C06996F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411-3638-4ABF-9EEF-DE0DE3B8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5D8-3FFD-4A24-B8E1-90A9B63A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595-587C-4A4B-969E-34298182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C03F-CC99-4991-B75E-7E982386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8B92-D840-449B-9FF3-C9D75164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85C8-1B53-4C82-9B87-74D9B536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7C48-F291-4206-895C-25935EA1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17A5-E249-4883-8D76-49750FBC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D8DD-48C8-42CE-A55B-091BB598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C2F6-84D8-45DE-908B-C6F6ABEE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06D-9E4D-4EA9-8C69-017F8FFF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DDA7-E9A5-4F9E-9EF3-17F85519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2813-1397-4125-AB3D-BD986102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A776-82C3-4C10-9765-E7ABFD50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9D13-2779-4DF9-BDD8-050BBA12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C33B-08C9-4189-AD74-609553E4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CE9-681E-43DE-A9B3-0E452803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74B-1E6C-46C2-88FF-B0B3AB37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1D4-DE73-47AC-AA83-9570011A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0B9-9B35-48F4-A867-4F0ECA68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81B-9C76-4BA6-8F02-706EFC1F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AA3-66AE-45BC-A62E-56005348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EE1-8E0D-4D32-A611-72C3533B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F5B0-1CD2-4472-A9ED-EBCC9BD37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1FC5-30AE-4EAC-BD74-6929BD641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693396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Root Anatom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two types of root sy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ibrous roo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ystem that has 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minant primary root bu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made of many primar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secondary roots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s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ically on monocot pl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 grasses, pansy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annual flo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184"/>
          <p:cNvPicPr/>
          <p:nvPr/>
        </p:nvPicPr>
        <p:blipFill>
          <a:blip r:embed="rId1"/>
          <a:stretch/>
        </p:blipFill>
        <p:spPr>
          <a:xfrm>
            <a:off x="5638680" y="1841400"/>
            <a:ext cx="32004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two types of root sy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876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does a healthy root system look like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healthy root system is white or nearly white in color and smells fresh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roots are black, brown, or dark orange and smell rotten or sour, the root system is having some problem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hough a plant growing outside has a majority of roots in only the top two feet of soil, a plant in a pot should have its roots evenly dispersed throughout the soil in the po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28600" y="76320"/>
            <a:ext cx="7162920" cy="31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amine the functions of roots in pla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the parts of a roo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fferentiate the two major types of root sy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the health of a roo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t’s root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ots anchor the plant to the ground and support the above ground part of the pla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ots store food that has been made through photosynthesi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food can be used later when a plant needs it to grow or surv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3581280" y="4267080"/>
            <a:ext cx="4483080" cy="2886120"/>
            <a:chOff x="3581280" y="4267080"/>
            <a:chExt cx="4483080" cy="2886120"/>
          </a:xfrm>
        </p:grpSpPr>
        <p:pic>
          <p:nvPicPr>
            <p:cNvPr id="90" name="Picture 5" descr="174"/>
            <p:cNvPicPr/>
            <p:nvPr/>
          </p:nvPicPr>
          <p:blipFill>
            <a:blip r:embed="rId1"/>
            <a:stretch/>
          </p:blipFill>
          <p:spPr>
            <a:xfrm>
              <a:off x="5867280" y="4267080"/>
              <a:ext cx="2197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175"/>
            <p:cNvPicPr/>
            <p:nvPr/>
          </p:nvPicPr>
          <p:blipFill>
            <a:blip r:embed="rId2"/>
            <a:stretch/>
          </p:blipFill>
          <p:spPr>
            <a:xfrm>
              <a:off x="3581280" y="4724280"/>
              <a:ext cx="1633680" cy="242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t’s root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A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xchange of g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ly linked to healthy roo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percentage of pores in soil provides good a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11" descr="176"/>
          <p:cNvPicPr/>
          <p:nvPr/>
        </p:nvPicPr>
        <p:blipFill>
          <a:blip r:embed="rId1"/>
          <a:stretch/>
        </p:blipFill>
        <p:spPr>
          <a:xfrm>
            <a:off x="5410080" y="3425760"/>
            <a:ext cx="26164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t’s root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ots need to be constantly growing in order to stay health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roots are weak or diseased, the whole plant has difficul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6" descr="177"/>
          <p:cNvPicPr/>
          <p:nvPr/>
        </p:nvPicPr>
        <p:blipFill>
          <a:blip r:embed="rId1"/>
          <a:stretch/>
        </p:blipFill>
        <p:spPr>
          <a:xfrm>
            <a:off x="2590920" y="3733920"/>
            <a:ext cx="38098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functions of 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t’s root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il moisture plays a significant role in root system healt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vailable wa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ter that can be absorbed by the plant ro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Unavailable wa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 film of water that binds tightly to the soil parti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not be used by the pl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ater-holding capac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bility of soils to hold wate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parts of a root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rimary roo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structure to emerge from the se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important root in the whole root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178"/>
          <p:cNvPicPr/>
          <p:nvPr/>
        </p:nvPicPr>
        <p:blipFill>
          <a:blip r:embed="rId1"/>
          <a:stretch/>
        </p:blipFill>
        <p:spPr>
          <a:xfrm>
            <a:off x="3235320" y="2895480"/>
            <a:ext cx="339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parts of a root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econdary ro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roots branching out from the primary ro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cells develop at the tip of the ro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easily damag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ected by 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oot c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Epiderm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n cells on the surface of the ro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the water and minerals ent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ot through osmosis and diff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oot hai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ongated epidermis cell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ly increase the surface area of the roo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180"/>
          <p:cNvPicPr/>
          <p:nvPr/>
        </p:nvPicPr>
        <p:blipFill>
          <a:blip r:embed="rId1"/>
          <a:stretch/>
        </p:blipFill>
        <p:spPr>
          <a:xfrm>
            <a:off x="7010280" y="3117960"/>
            <a:ext cx="20844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are the two types of root system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aproo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oot system composed of one main primary root and many secondary roots branching 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dicot plants have taproot syste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of taproot include radishes, beets, and carr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1219320" y="3886200"/>
            <a:ext cx="7033320" cy="2894760"/>
            <a:chOff x="1219320" y="3886200"/>
            <a:chExt cx="7033320" cy="2894760"/>
          </a:xfrm>
        </p:grpSpPr>
        <p:pic>
          <p:nvPicPr>
            <p:cNvPr id="109" name="Picture 5" descr="183"/>
            <p:cNvPicPr/>
            <p:nvPr/>
          </p:nvPicPr>
          <p:blipFill>
            <a:blip r:embed="rId1"/>
            <a:stretch/>
          </p:blipFill>
          <p:spPr>
            <a:xfrm>
              <a:off x="3726000" y="3886200"/>
              <a:ext cx="1860480" cy="28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181"/>
            <p:cNvPicPr/>
            <p:nvPr/>
          </p:nvPicPr>
          <p:blipFill>
            <a:blip r:embed="rId2"/>
            <a:stretch/>
          </p:blipFill>
          <p:spPr>
            <a:xfrm>
              <a:off x="5968440" y="4228200"/>
              <a:ext cx="2284200" cy="23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7" descr="182"/>
            <p:cNvPicPr/>
            <p:nvPr/>
          </p:nvPicPr>
          <p:blipFill>
            <a:blip r:embed="rId3"/>
            <a:stretch/>
          </p:blipFill>
          <p:spPr>
            <a:xfrm>
              <a:off x="1219320" y="4010400"/>
              <a:ext cx="2044800" cy="230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8:38:10Z</dcterms:created>
  <dc:creator>Lindi Kocher</dc:creator>
  <dc:description/>
  <cp:keywords/>
  <dc:language>en-US</dc:language>
  <cp:lastModifiedBy>Alicia Burge</cp:lastModifiedBy>
  <dcterms:modified xsi:type="dcterms:W3CDTF">2011-03-08T03:16:40Z</dcterms:modified>
  <cp:revision>36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